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4428-C5F5-4D47-BC8E-0144D30FC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E84B-27AE-44F9-BC26-B7D48B169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903B-32D8-44D8-A64B-8F89A3086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D19C-C36F-46DA-AADA-2679E1ABA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9BBD-1C31-4369-A4BC-715494C3A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C2BE-2672-45FF-99FE-B4D5D5238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1083-6992-4321-AD5C-D64BFCA6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29D0-91DC-447E-B41A-8B9B4424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81B8-10AA-4BD3-84EF-24C5C89A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5062-406A-429C-98C9-7CCF9EDB3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1127-9B9D-4467-BE2A-ECC7438C2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A33D-C76B-4822-85D0-2BC9D4701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Google Shape;54;p100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Google Shape;64;p102"/>
          <p:cNvSpPr/>
          <p:nvPr/>
        </p:nvSpPr>
        <p:spPr>
          <a:xfrm>
            <a:off x="487440" y="5303880"/>
            <a:ext cx="2084400" cy="142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Google Shape;66;p103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Google Shape;72;p104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Google Shape;73;p104"/>
          <p:cNvSpPr/>
          <p:nvPr/>
        </p:nvSpPr>
        <p:spPr>
          <a:xfrm>
            <a:off x="7510320" y="0"/>
            <a:ext cx="3648240" cy="6858000"/>
          </a:xfrm>
          <a:prstGeom prst="rect">
            <a:avLst/>
          </a:prstGeom>
          <a:solidFill>
            <a:srgbClr val="f2f2f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Google Shape;79;p105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2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Google Shape;84;p106"/>
          <p:cNvSpPr/>
          <p:nvPr/>
        </p:nvSpPr>
        <p:spPr>
          <a:xfrm>
            <a:off x="0" y="0"/>
            <a:ext cx="12192120" cy="687708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546a"/>
                </a:solidFill>
                <a:latin typeface="Century Gothic"/>
                <a:ea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41C81-5EF2-4013-90C6-68BFDBFD8291}" type="slidenum">
              <a:rPr b="0" lang="en-US" sz="1200" spc="-1" strike="noStrike">
                <a:solidFill>
                  <a:srgbClr val="44546a"/>
                </a:solidFill>
                <a:latin typeface="Century Gothic"/>
                <a:ea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Google Shape;13;p93" descr="A picture containing text, windmill, device&#10;&#10;Description automatically generated"/>
          <p:cNvPicPr/>
          <p:nvPr/>
        </p:nvPicPr>
        <p:blipFill>
          <a:blip r:embed="rId2"/>
          <a:srcRect l="0" t="26823" r="0" b="12574"/>
          <a:stretch/>
        </p:blipFill>
        <p:spPr>
          <a:xfrm>
            <a:off x="-131760" y="1270080"/>
            <a:ext cx="12534840" cy="427680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Google Shape;18;p94"/>
          <p:cNvSpPr/>
          <p:nvPr/>
        </p:nvSpPr>
        <p:spPr>
          <a:xfrm>
            <a:off x="0" y="0"/>
            <a:ext cx="12192120" cy="320976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Google Shape;22;p94" descr="A picture containing text, windmill, device&#10;&#10;Description automatically generated"/>
          <p:cNvPicPr/>
          <p:nvPr/>
        </p:nvPicPr>
        <p:blipFill>
          <a:blip r:embed="rId2"/>
          <a:srcRect l="1053" t="26823" r="62311" b="63534"/>
          <a:stretch/>
        </p:blipFill>
        <p:spPr>
          <a:xfrm>
            <a:off x="0" y="477720"/>
            <a:ext cx="4592520" cy="6811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Google Shape;18;p94"/>
          <p:cNvSpPr/>
          <p:nvPr/>
        </p:nvSpPr>
        <p:spPr>
          <a:xfrm>
            <a:off x="0" y="0"/>
            <a:ext cx="12192120" cy="320976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Google Shape;22;p94" descr="A picture containing text, windmill, device&#10;&#10;Description automatically generated"/>
          <p:cNvPicPr/>
          <p:nvPr/>
        </p:nvPicPr>
        <p:blipFill>
          <a:blip r:embed="rId2"/>
          <a:srcRect l="1053" t="26823" r="62311" b="63534"/>
          <a:stretch/>
        </p:blipFill>
        <p:spPr>
          <a:xfrm>
            <a:off x="0" y="477720"/>
            <a:ext cx="4592520" cy="6811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Google Shape;24;p95"/>
          <p:cNvSpPr/>
          <p:nvPr/>
        </p:nvSpPr>
        <p:spPr>
          <a:xfrm>
            <a:off x="0" y="0"/>
            <a:ext cx="7967520" cy="687708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Google Shape;27;p95"/>
          <p:cNvSpPr/>
          <p:nvPr/>
        </p:nvSpPr>
        <p:spPr>
          <a:xfrm>
            <a:off x="6900840" y="1598760"/>
            <a:ext cx="3648240" cy="3660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Google Shape;31;p96" descr="A picture containing text, windmill, device&#10;&#10;Description automatically generated"/>
          <p:cNvPicPr/>
          <p:nvPr/>
        </p:nvPicPr>
        <p:blipFill>
          <a:blip r:embed="rId2"/>
          <a:stretch/>
        </p:blipFill>
        <p:spPr>
          <a:xfrm>
            <a:off x="-12600" y="-12600"/>
            <a:ext cx="12360240" cy="6959520"/>
          </a:xfrm>
          <a:prstGeom prst="rect">
            <a:avLst/>
          </a:prstGeom>
          <a:ln w="0">
            <a:noFill/>
          </a:ln>
        </p:spPr>
      </p:pic>
      <p:pic>
        <p:nvPicPr>
          <p:cNvPr id="198" name="Google Shape;32;p96" descr="A picture containing text, windmill, device&#10;&#10;Description automatically generated"/>
          <p:cNvPicPr/>
          <p:nvPr/>
        </p:nvPicPr>
        <p:blipFill>
          <a:blip r:embed="rId3"/>
          <a:srcRect l="0" t="19855" r="0" b="20292"/>
          <a:stretch/>
        </p:blipFill>
        <p:spPr>
          <a:xfrm>
            <a:off x="0" y="0"/>
            <a:ext cx="12360240" cy="41655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Google Shape;36;p97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Google Shape;44;p98"/>
          <p:cNvSpPr/>
          <p:nvPr/>
        </p:nvSpPr>
        <p:spPr>
          <a:xfrm>
            <a:off x="0" y="0"/>
            <a:ext cx="3327480" cy="68580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Google Shape;49;p99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youtu.be/KkYeP5cRyRA" TargetMode="External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774720" y="1951200"/>
            <a:ext cx="9245520" cy="33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Microbiology Specimen Labeling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876240" y="5730480"/>
            <a:ext cx="9144000" cy="9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25408f"/>
                </a:solidFill>
                <a:latin typeface="Arial"/>
              </a:rPr>
              <a:t>[Your Organization Here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8080" y="160488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VIDEO – ROCHE LI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38080" y="3428640"/>
            <a:ext cx="10515600" cy="231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HTTPS://YOUTU.BE/KKYEP5CRY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756720" y="1152000"/>
            <a:ext cx="492444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Blood Culture Bott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756720" y="2549160"/>
            <a:ext cx="492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NOT block/obstruct barco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rcode needed to scan in instru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1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63360">
            <a:solidFill>
              <a:srgbClr val="ffffff"/>
            </a:solidFill>
            <a:round/>
          </a:ln>
        </p:spPr>
      </p:pic>
      <p:pic>
        <p:nvPicPr>
          <p:cNvPr id="635" name="Google Shape;124;p2" descr="photo of a bottle used in the laboratory stating the importance of not covering up the barcode. "/>
          <p:cNvPicPr/>
          <p:nvPr/>
        </p:nvPicPr>
        <p:blipFill>
          <a:blip r:embed="rId2"/>
          <a:srcRect l="0" t="10663" r="4365" b="15923"/>
          <a:stretch/>
        </p:blipFill>
        <p:spPr>
          <a:xfrm>
            <a:off x="6900840" y="1598760"/>
            <a:ext cx="3571920" cy="3660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56720" y="1152000"/>
            <a:ext cx="492444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Sterile Contain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756720" y="2549160"/>
            <a:ext cx="492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ine – Label actual container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 the l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e sure the lid is properly closed to prevent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body flu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1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63360">
            <a:solidFill>
              <a:srgbClr val="ffffff"/>
            </a:solidFill>
            <a:round/>
          </a:ln>
        </p:spPr>
      </p:pic>
      <p:pic>
        <p:nvPicPr>
          <p:cNvPr id="639" name="Google Shape;132;p3" descr="photo of a example of a sterile container. "/>
          <p:cNvPicPr/>
          <p:nvPr/>
        </p:nvPicPr>
        <p:blipFill>
          <a:blip r:embed="rId2"/>
          <a:srcRect l="0" t="0" r="2597" b="2285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56720" y="1152000"/>
            <a:ext cx="492444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T/GC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756720" y="2549160"/>
            <a:ext cx="492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8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rine or swa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8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f sending swab, obtain specimen collection from Microbi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8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se the swab and insert into smaller tube.  Send smaller tube with swab to the laborato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8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f urine, send urine to microbi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63360">
            <a:solidFill>
              <a:srgbClr val="ffffff"/>
            </a:solidFill>
            <a:round/>
          </a:ln>
        </p:spPr>
      </p:pic>
      <p:pic>
        <p:nvPicPr>
          <p:cNvPr id="643" name="Google Shape;139;p4" descr="a photo showing an example of a swab. "/>
          <p:cNvPicPr/>
          <p:nvPr/>
        </p:nvPicPr>
        <p:blipFill>
          <a:blip r:embed="rId2"/>
          <a:srcRect l="10069" t="0" r="14967" b="0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756720" y="1152000"/>
            <a:ext cx="492444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Swab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756720" y="2549160"/>
            <a:ext cx="492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u Swabs – Viral Te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U/RS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SV/VZ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piratory Pa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Sizes: 3mL and 1 mL (pe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-on orders for Respiratory Panel same as FLU sw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1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63360">
            <a:solidFill>
              <a:srgbClr val="ffffff"/>
            </a:solidFill>
            <a:round/>
          </a:ln>
        </p:spPr>
      </p:pic>
      <p:pic>
        <p:nvPicPr>
          <p:cNvPr id="647" name="Google Shape;146;p5" descr="a photo showing a example of a respiratory panel and swab. "/>
          <p:cNvPicPr/>
          <p:nvPr/>
        </p:nvPicPr>
        <p:blipFill>
          <a:blip r:embed="rId2"/>
          <a:srcRect l="27474" t="24007" r="17667" b="2644"/>
          <a:stretch/>
        </p:blipFill>
        <p:spPr>
          <a:xfrm>
            <a:off x="6900840" y="1600200"/>
            <a:ext cx="3648240" cy="3659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756720" y="1152000"/>
            <a:ext cx="492444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OLLECTION SWAB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756720" y="2549160"/>
            <a:ext cx="492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9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r swabs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pid Strep A ant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erobic/Anaerobic cul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RSA Surveillance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pecial labeling requir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63360">
            <a:solidFill>
              <a:srgbClr val="ffffff"/>
            </a:solidFill>
            <a:round/>
          </a:ln>
        </p:spPr>
      </p:pic>
      <p:pic>
        <p:nvPicPr>
          <p:cNvPr id="651" name="Google Shape;153;p6" descr="a photo example of a collection swab. "/>
          <p:cNvPicPr/>
          <p:nvPr/>
        </p:nvPicPr>
        <p:blipFill>
          <a:blip r:embed="rId2"/>
          <a:stretch/>
        </p:blipFill>
        <p:spPr>
          <a:xfrm>
            <a:off x="7308720" y="2901960"/>
            <a:ext cx="2832120" cy="1054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756720" y="1152000"/>
            <a:ext cx="492444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SF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756720" y="2549160"/>
            <a:ext cx="492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el each tub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mindful of tube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63360">
            <a:solidFill>
              <a:srgbClr val="ffffff"/>
            </a:solidFill>
            <a:round/>
          </a:ln>
        </p:spPr>
      </p:pic>
      <p:pic>
        <p:nvPicPr>
          <p:cNvPr id="655" name="Google Shape;160;p7" descr="a photo example of tubes to highlight the importance of labeling. "/>
          <p:cNvPicPr/>
          <p:nvPr/>
        </p:nvPicPr>
        <p:blipFill>
          <a:blip r:embed="rId2"/>
          <a:srcRect l="13776" t="0" r="0" b="0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756720" y="1152000"/>
            <a:ext cx="492444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. DIFF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756720" y="2549160"/>
            <a:ext cx="492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s 5-7 will be accep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24 hours ordered without collection will be cance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eat testing discouraged within 7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1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63360">
            <a:solidFill>
              <a:srgbClr val="ffffff"/>
            </a:solidFill>
            <a:round/>
          </a:ln>
        </p:spPr>
      </p:pic>
      <p:pic>
        <p:nvPicPr>
          <p:cNvPr id="659" name="Google Shape;167;p8" descr="image of a chart displaying the Bristol Stool Chart "/>
          <p:cNvPicPr/>
          <p:nvPr/>
        </p:nvPicPr>
        <p:blipFill>
          <a:blip r:embed="rId2"/>
          <a:stretch/>
        </p:blipFill>
        <p:spPr>
          <a:xfrm>
            <a:off x="6867360" y="957240"/>
            <a:ext cx="4569120" cy="5257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756720" y="1152000"/>
            <a:ext cx="492444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Preview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756720" y="2549160"/>
            <a:ext cx="492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wab – to replace bacterial sw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 be used for Rapid Strep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" descr=""/>
          <p:cNvPicPr/>
          <p:nvPr/>
        </p:nvPicPr>
        <p:blipFill>
          <a:blip r:embed="rId1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63360">
            <a:solidFill>
              <a:srgbClr val="ffffff"/>
            </a:solidFill>
            <a:round/>
          </a:ln>
        </p:spPr>
      </p:pic>
      <p:pic>
        <p:nvPicPr>
          <p:cNvPr id="663" name="Google Shape;174;p9" descr="photo showing images of eSwabs."/>
          <p:cNvPicPr/>
          <p:nvPr/>
        </p:nvPicPr>
        <p:blipFill>
          <a:blip r:embed="rId2"/>
          <a:srcRect l="4099" t="-35514" r="4099" b="-44620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17T19:57:26Z</dcterms:created>
  <dc:creator>Marc Benedict Bernaldez</dc:creator>
  <dc:description/>
  <dc:language>en-US</dc:language>
  <cp:lastModifiedBy>app</cp:lastModifiedBy>
  <dcterms:modified xsi:type="dcterms:W3CDTF">2023-09-22T20:40:17Z</dcterms:modified>
  <cp:revision>3</cp:revision>
  <dc:subject/>
  <dc:title>Microbiology Specimen Labeling</dc:title>
</cp:coreProperties>
</file>